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BB3D-4C4E-4B8D-86CC-C43A7AC3D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301C-7141-4D0B-92DC-CA5C63AB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55AD-A81B-42C4-AA38-6A59802F1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3EE9-A686-4554-B914-C8E8FB001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9940-68FB-4E53-83CC-1A37B20FB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9F24-78D7-4375-90B8-A6088AA0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118C-911B-4C8C-9908-365172EB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19F3-3E91-4CA0-A386-9C96AF91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DDF0-C612-4E05-B236-0B4FF873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A0B4-B3C8-4217-8B95-B098C12E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FC20-E2FD-47DF-912E-BC99FEE4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F286-5B65-48C7-B123-FBB15C04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06F9-317D-4E67-A7C8-3CB82861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8D4A-CCCB-47F4-9453-C7A50B45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CB7D-F71E-458B-98C6-752D7ED7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F8A6-A7FD-4B13-B28A-5450338C1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C0D2-287D-44BC-8FC7-7E504A7E3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E266-33B6-4257-B798-60D93161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6FCD-9590-43DA-94D5-954CC6B1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1CAF-600E-4D8E-988B-72577379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23A2-AA04-47F4-822D-E57B42BD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8AAE-2D08-4557-B419-9CD4D9ED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3420-886A-44E6-B22F-4879F860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06C6-4D4E-46CA-A2AD-37324848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830B-1BC8-4EC4-A345-4F5ADEDFC0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DA62-6A2C-4A4B-AC5B-3FE60A5FD7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arth Sienc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Ellie McGu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inera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properties of Minerals are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edimentary Rock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edimentary Rock forms when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gneous Rock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Igneous Rock forms when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etamorphic Rock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etamorphic Rock forms when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01680" y="1676160"/>
            <a:ext cx="854064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arth’s Layer’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th has 4 layers the Inner core, outer core, Mantle, and Cru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ner Core is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uter Core is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ntle is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rust is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Earth's Layers"/>
          <p:cNvPicPr/>
          <p:nvPr/>
        </p:nvPicPr>
        <p:blipFill>
          <a:blip r:embed="rId2"/>
          <a:stretch/>
        </p:blipFill>
        <p:spPr>
          <a:xfrm>
            <a:off x="4495680" y="2971800"/>
            <a:ext cx="41626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e Plat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te Tectonics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ental Drift is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te Boundaries is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800600" y="1447920"/>
            <a:ext cx="402444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preading Boundari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reading Boundaries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38080" y="2286000"/>
            <a:ext cx="502920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racture Boundari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cture Boundaries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38080" y="2209680"/>
            <a:ext cx="365148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lliding Boundari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iding Boundaries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colliding boundary"/>
          <p:cNvPicPr/>
          <p:nvPr/>
        </p:nvPicPr>
        <p:blipFill>
          <a:blip r:embed="rId2"/>
          <a:stretch/>
        </p:blipFill>
        <p:spPr>
          <a:xfrm>
            <a:off x="609480" y="2286000"/>
            <a:ext cx="449604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arthquak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icenter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gnitude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an’s Earthqua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Volcan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olcano happens when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ock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sition of Rock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eral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sition of Minerals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ystals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7:47:00Z</dcterms:created>
  <dc:creator>emcguire</dc:creator>
  <dc:description/>
  <dc:language>en-US</dc:language>
  <cp:lastModifiedBy>emcguire</cp:lastModifiedBy>
  <dcterms:modified xsi:type="dcterms:W3CDTF">2011-03-16T17:48:29Z</dcterms:modified>
  <cp:revision>2</cp:revision>
  <dc:subject/>
  <dc:title>Earth Sience</dc:title>
</cp:coreProperties>
</file>